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870-4F46-45BF-B82F-64B07143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A37-35A3-4122-A8C5-21C7D22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1AD9-4442-4D08-BF65-DA6968C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E76F9-3480-4569-B592-AC61320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F4003-292C-431D-9CF2-50F6E171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AAC4C-E07F-4CC3-AD3B-CE0CC49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DFF6-2494-42E6-9404-A0B2808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9DA27-55B6-437D-A03E-7CCCD46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39C2-B4EE-4C51-9754-9A2DEA2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C6C4E-FD36-4B70-8504-DB651F0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E243A-E625-41D5-95BB-65E4869D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5994-A3F9-4234-8AC8-AFB46D62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304-84E9-4D2A-A938-2F84F707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0D843-C0DC-4B79-B8BB-6A470BA3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7399A-D07F-4EF0-BEC2-CC0368EF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F8FCC-A9E8-4B08-9016-5A5D7565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6903-241B-46D2-8937-4782D88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82CC7-6686-4BBA-900A-1E41253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8BBD2-B33C-4BCD-8CA9-70ED3815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1D12-AECD-4598-A350-C4B7F2D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6AFB0-2364-4715-9B0F-E0DCEF2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61C7F-A40A-4F64-898F-2C7522A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58F36-C865-4AA4-AA2F-04C557A5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680-4230-421D-8BF8-28CE483A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0643E-6749-4CD7-87D4-574F1F1F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E1D3-A711-4A17-9E8A-4EE0FB91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55B48-5BD8-4A4A-A755-1592798F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07390-A0B7-4DAB-83DB-64D5EFD1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4B97A-F316-4946-86FD-7B2B9C93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945A1-7D84-449B-8FF1-DD1B747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0157-8892-4DC1-B3AA-14A8C013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BA83-10C7-4F7C-8820-8A86B0E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3BAA-DC21-4AF7-8A69-093FE59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8A73-2240-4936-844D-B34129B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4969-8337-417A-990E-26BACD38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C63D6-671D-43CD-B805-6A2B33E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EF62-1B70-41BA-92F6-6282147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CBEB5-7A17-49F1-B3A8-B7EC0E39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D7754-0434-4DA5-B1F6-DD71A368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9511C-542E-4B54-8338-CEE2CD2F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8366C-3F5F-4D4A-BE29-3BB9582F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19AD8-EFFE-4A27-8FBA-3CAE3805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0EBFB-7A2F-40AD-AE94-9D3FE57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4BE13-3087-470F-AF5B-884E847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C52A8-BC8F-484A-A707-84F4F7A1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B2C-6F20-4C69-8A7A-9C519EC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A8C28-A328-401B-ACD3-658D77F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1A3A9-CA0A-41E2-AAAB-80B5B03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68FFA-D942-4732-B6B1-539D3C83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9EDC6-2C8B-4D47-A505-EEBD3150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238B1-9B7B-44ED-954B-4BEECCE0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E37CF-B531-4497-99E4-D1FD240B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4BD9D-7F36-45B3-85E4-C80D1AD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5E5A8-11DB-4573-BDDB-48522127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D4AE8-A618-4843-8A7A-B1E5CAF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DAEB5-4747-4B04-811A-8AFA47F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122-D445-4F0B-BECF-917CED9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E7FE6-F4CB-471D-BAB2-A521748B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A025D-7CC1-4195-B67D-2E3C182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D505A-D52A-4561-ACF2-6A6EFDE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93DEC-F656-463A-804C-097473C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84563-371D-4EA3-A6B1-6B30D804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9054C-1A1C-4916-BB19-BB5F2C6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6263A-D125-46C4-9BF2-CA35AF3F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DD934-54C8-4664-9CC9-C5ED033E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5AE07-940C-4194-9F33-2F621D6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82C19-1EFF-465D-AB2A-1C118DAD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13E1-1D45-44C3-B073-C90D3E2E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60F33-603A-44A4-AC0D-3A05A73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AD0E5-70EB-4648-9EFB-A7590F4D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5E80C-1899-4A4B-BE7A-0A9770C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4BFA8-6309-4728-8AD5-8BCC900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C7ACE-5077-4B65-B040-52429DB0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AA373-BE90-47AC-BA83-3D07315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E49C3-64B2-484A-8290-6D9AE40A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07D3F-AADE-495A-8100-3EE1751E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0B012-0D82-4E4E-AA33-CF75A2F0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7BF09-C87B-4101-A6E2-977EB04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5DD-057C-4A9F-BE46-B749FBD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BC47C0-29EB-4802-BB52-8C3D95F8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29BE3-EC70-46BA-BE57-EB49999C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3E01D-0E20-4993-B969-20710F5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754DB-6B6C-446A-9F6E-0A11BAC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0F67E-BFE5-4A50-B8A2-5782871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436B8-BF63-4051-AE90-50D22E73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DC092-4669-414A-A45F-7665DD9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7DE27-9150-4E78-B9DC-1EBAD99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C08ED-AF7D-4AE9-89B0-DBB698D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FE313-99BD-4034-9B41-0FFBDE70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32F2-AF38-4AE5-A612-C14560B2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4137D-53D2-47A7-ABA0-89546F97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0C226-74E8-4ED8-8294-D33E9CDB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D2E1C-1E95-41F9-9CE5-19ABAB4A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4347D-230E-4233-A27B-A4FA035A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D8804-7162-4550-8122-61839E3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0D632-5951-4BBC-8CF0-0D871BE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2C95F-1D66-4101-A956-67162CA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482DD-6C90-4374-9530-08DB0D8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9256A-F586-4333-A4A7-3C0F999C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DDCD0-1604-469C-96AF-AF06787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990-3308-458F-8C91-A2FDC0F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A05E4-61BE-41B8-87DB-C25083F4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CB44C-BF90-412E-AF42-10EC982E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A22D4-D8E8-49F7-ADB9-832D527E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53AFD-5C79-4316-98AC-78553540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9702A-8099-4C1B-983F-6E64BF40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8FE7A-85E8-40B2-BE24-95270EB5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8EB04-06B7-46E4-BFEC-C016BC5A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251C4-3F58-41B9-BC08-E246ECC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9F9FC-757C-4AD0-A357-627E0E5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2870E-2A69-4E65-AE2F-850C402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F66-8293-4BCD-BB98-6035F09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024-5FAE-4BB2-A113-082A77D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E662E-692E-4A69-B0F8-4F3A163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9699F-FBCF-4BE1-97BB-AE90473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D9317-92D4-4217-BB74-C0CFFBC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DFCE9-A03A-4A7F-B712-849621EF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19A72-CF34-4119-828F-905855F0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D40AE-33E4-4EF4-8E6A-DDE63962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C6BEA-0379-45AC-9AE9-47FC9232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6D2F8-7301-4575-8E21-D671C3AB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EE035-3A75-4AB5-84C6-E5FCE92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64292-AA47-4877-9060-CAF03D7F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A314-721B-45A1-A5C4-E8C581D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FD58C-8F78-438E-8C8F-DE7393B9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86A2A-C9C7-445D-B090-4A585C0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0A15B-F9E8-4A3E-B253-4E1EA85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D6B9A-AB72-4A6E-B605-E01B462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A27299-53F8-4869-9106-2D1523D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4EAD9-F799-466A-9F32-6048D4E0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3E201-D2B9-4A17-B0C5-850B9FAE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0333E-5B21-4449-BC45-9396C31A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E8911-7881-40B0-9408-1698DD1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1159A-E0F1-46C0-8D08-4D25654E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29BB-8794-4293-A8DD-00568D45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381E5-E508-4F78-BAB9-70EA609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AD18D-A9EF-4DFD-9D26-1FE4810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CDCD6-1FAD-4C24-B13F-DE3165B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F1801-59D6-437D-AEEF-2A17A0F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00938-D263-41E4-806A-2A8093D6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F90E3-4E30-4E17-B24F-3B035A9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1CC32-AA41-4E71-B499-0D4B186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DB318-9D59-4577-8F0B-723746C0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B0ACA-B7E7-400E-A638-49841DC0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337C1-8D37-4116-B832-D67A502B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DC8-0691-48B2-B014-AF4501D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516DC-5270-4B77-9C02-44C1794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28C0C-3DA2-41BF-9ED5-D8E7B10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828D5-6B26-4A6C-9262-6A5F7DD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E675F-506C-4F7F-B215-7303C56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3352F-A4C4-4FA2-B537-8CFFE13F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49CE2-FAB8-479C-8DF4-749A66F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AFD9B-A4E3-41F9-A64F-7828253D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77D0F-013B-4903-9A55-983C62F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6528E-A3E5-4BAA-816A-4468282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07E92-1B43-4227-8B66-6D6E755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FF42-4631-49F0-B14F-BEDBD624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B2662-F74A-48DB-9D4D-8DDC3658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C0849-FDF4-4FDF-ACE0-B1E14D7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0D83F-4456-4047-9BC1-1BFDCEE1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CDDBF-A1F6-467B-8580-67803FA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A18C8-8B1E-4EE0-B656-F312406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891E7-2728-48D0-873B-E64E8FA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403B6-F972-456C-8103-D0F76BF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617F0-215B-4D8E-B2FB-5C20FBB3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90340-F104-466C-ADCF-E170798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D7B5BD-9906-4FA4-999A-E4A21DD2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3F0F-D54E-4CE0-89DE-CBAF8D07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FA904-021B-43B7-A27B-55071C5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3F607B-1FC5-4291-B9AF-60296CD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F0A30-3B2D-493D-9E74-0D851091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6891-D5B9-4CCF-BE60-B4E230D6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3C3D-52F7-40D9-B092-E30470F3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BA84-BE8E-4624-B141-91F6750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39E9-2EF0-47A7-A83E-D12139EC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5A4-1AFB-4210-B19A-56AFB6A1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4DBE-C0B4-4E3D-8A5D-30DFC209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758B-DFDB-47E7-9AEA-8DF7E21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3649-A2BD-4D1F-9105-A46C0FA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2A83-A588-4DB7-9B06-8C1945D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4F2F-5B52-412F-BBC3-FF941CCD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B452-DAB6-4588-BD82-FD6A03E1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D459-124B-4F59-B957-7406631F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AC7F-D8F5-4B26-B088-AA31F874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5F29A-E276-48EC-955A-6411C5C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86A6-E59E-45A8-978F-6C9D8CE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C3B-FECC-4C99-9C74-D5F43F6A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E7FB-37B4-4AE3-9263-92B116C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E98A-B82E-4315-9960-3BC50BAD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3E70-41DF-4C57-BA40-F6B083A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3457-9DA0-4442-B8C2-A7839C5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573F-E47F-460E-8444-7968465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6002-8768-4341-BDDF-14D53A2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0CD5-F6A8-4374-8353-AAAD78C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D841-E57D-47BC-90D3-76C14152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8736-DDF6-481A-B220-052E41F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72DA-940F-4E70-A25F-77E71BC2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503-C8D2-4C42-9E1D-54D0DA6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0C0F-39F4-4981-8989-F6CAC6A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44D2-C22A-4DD0-B174-6B03ADFB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C7BC-B51F-4483-A1EF-DD3852D4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982C-FD1F-4EE5-AA57-F4A8071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12DE-39A1-42BE-B52B-4AD35F2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9E22-5407-441E-8C59-38B4369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34EF-9A38-4F4E-BDD8-5F8458FE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AEE2-B966-455D-9E2C-38B0041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A77E-CF74-481E-8D19-4F25917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05B7-B5E2-47EB-8B24-6DFB8D2F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4EC-D598-4068-ACF4-06561274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2AD6-D0AE-475D-B15A-A12A886E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2F34-1C41-40E5-B845-C84F95A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16CB-D4E2-4351-9781-4EF3FFD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5C04B-0F12-46CA-AE4C-8E74CFE4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3BFF-3072-4160-A723-B2E78E3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5B58-897F-4EEF-8AB3-F7161523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A0D1-15DE-4962-8E08-296028D1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5DB4-A58F-4396-ADCB-C21E200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2E04-A61D-49A4-8F84-D2AFDA0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63A6-8049-4735-B9B4-31A06BF6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65F-4857-4AFD-85A7-081D21B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0BA2-BC64-4401-9BF9-7AB10E1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30BE-6357-4D6E-A073-6CE0422A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0FE8-5232-42A8-B331-CCE33310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1FE7-0E64-4D00-988A-D9F7DFE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5049-1141-45FA-A3FA-A519E6E6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F8848-3D13-4DF2-9788-08FAC1E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2833-0597-4945-8050-92C8B1B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0EDF-BCAE-4AF8-B1AD-AA4C6F6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55DE-581F-4D88-A66E-2C493A3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DE3E-9BA4-4973-B0FA-3CF7154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2E7-1287-4BAB-8770-0D15083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546E-65E9-40B5-8ED9-C91A89E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6BA8-0988-4107-981D-8F4F3A9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9CC4-AFB7-400C-B7C3-11BA492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0D9A-D256-4C4E-889C-6EB80AC3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ADEEB-DCAB-4446-B3FB-D2B41B0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EF75-608A-4F93-BB9E-732EF8EF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27AB-BD99-46BF-A13A-E33ABB9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F015-0BBB-45CD-9EB5-1CE10C1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1ED8-2D54-485A-9248-ECF70F7C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1EE35-5440-48BF-A5F5-9E91D62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16F-DAFD-4E84-A121-AA546CB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2694E-867C-4DE6-A744-6D9B7C46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AB31-D963-431C-B12F-B5925B19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A31E5-762A-4297-9A6A-41872ED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FE736-8AB4-44E6-A410-FF7F13BE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2B42-3539-4A95-99A3-4265833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9734-92D1-47CA-BA9A-A3F07AB7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F02D-E494-4B49-96AB-7C598065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84EF2-4AE1-40CB-B47A-C38CE3CE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E5F27-D4D3-4504-81AE-B8D33D1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3C44-C8DE-4A20-8D91-ED1FF9F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ADC-7AC5-435B-A092-2E04D93CE0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535-F5FC-42B7-8849-378A38B90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DB19-1E69-4367-827E-C6076A009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BEAF-AC84-4940-B830-BEA02D686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0F3-1C90-4B10-B9A7-577557275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40F-369C-4C3C-BE14-408531924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E5A-9AE2-4A00-9238-5F8F24390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1DD-10F0-4F17-99CD-F7FECE0D7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0BE7-F418-42FD-8695-0BC1B4656F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EF7D-16AE-46BA-8AA4-B0DF937E6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EEF-72B8-41B9-8387-EDC351D9D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5591-9B6F-469D-8807-2F911BAFC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1CB7-DF36-44C1-AD5D-E9E83FD51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30E-0573-4F4C-8583-E05CDF229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EA7B-C0A6-4DDB-9B70-03E0F0FD4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CD1-F14D-4B25-AD4E-EB7E7898C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78E-6821-4260-9C65-384A51958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08F-A41C-4662-9274-C6870149D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4D41-462E-4D27-93E6-40DF77367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DBB-B7D9-4579-A5EC-51B290FC41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8A9-9789-4E27-87F6-6908BA18B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077-24FC-43A1-B7C9-6C769042C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0D1D-1BE6-4168-BB4F-7001D1668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57A-1540-4EA3-91DB-F0A9CC969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9B3-CBC4-4964-B3A0-6CBBBB311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5AF-69E5-4D4D-8342-C7E9A016C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C7B-5717-4188-B338-D77E1F4EA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6804-640C-4A27-A7A1-E77DB3CCA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C82-7E51-4ECB-8C4E-12BB2B275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477-75FB-4309-9E20-4B55F267D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C3D-9750-45AB-9D06-C689A96F2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93C7-CA4A-4F76-B8BF-4071F30B2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975-9406-4FEA-81E5-D6BDEEC93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4F10-ABF1-4492-8713-189349045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137-9956-40B1-8DA1-64B9866A5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4509-093A-4A98-9313-7C911988D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D966-D6C6-4B08-8650-B0CFA666D7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63C-6101-4FA3-AFA9-D3222011A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CC91-C16B-4B96-BF39-0A079470D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5111-16E7-48BE-BE9A-DC83507B5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00200" y="3062160"/>
            <a:ext cx="774360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666720" y="1709640"/>
            <a:ext cx="7810560" cy="3438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3995640" y="2736720"/>
            <a:ext cx="1224000" cy="540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2411280" y="3241800"/>
            <a:ext cx="1224000" cy="539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5651640" y="3687840"/>
            <a:ext cx="1224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204840" y="1042920"/>
            <a:ext cx="8734320" cy="4772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8135640" cy="539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81356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930240"/>
            <a:ext cx="8515440" cy="5667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885080" y="3429000"/>
            <a:ext cx="647640" cy="539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85080" y="4365720"/>
            <a:ext cx="647640" cy="539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885080" y="5992920"/>
            <a:ext cx="647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85720" y="1728720"/>
            <a:ext cx="7972560" cy="3400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524720" y="2637000"/>
            <a:ext cx="647640" cy="539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7524720" y="4365720"/>
            <a:ext cx="647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6801" descr=""/>
          <p:cNvPicPr/>
          <p:nvPr/>
        </p:nvPicPr>
        <p:blipFill>
          <a:blip r:embed="rId1"/>
          <a:stretch/>
        </p:blipFill>
        <p:spPr>
          <a:xfrm>
            <a:off x="466560" y="1022400"/>
            <a:ext cx="8210880" cy="5143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382840" y="230832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270480" y="230508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382840" y="329868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300720" y="329868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166840" y="429264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6688080" y="4292640"/>
            <a:ext cx="432000" cy="360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2513160" y="544500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6516720" y="5345280"/>
            <a:ext cx="43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366840" y="1805040"/>
            <a:ext cx="8410320" cy="3247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158840" y="309888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335560" y="306864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8043840" y="306864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1187280" y="4292640"/>
            <a:ext cx="576360" cy="480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3708360" y="4221000"/>
            <a:ext cx="576360" cy="481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5335560" y="4221000"/>
            <a:ext cx="576360" cy="481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8028000" y="4221000"/>
            <a:ext cx="576360" cy="4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318960" y="900000"/>
            <a:ext cx="8506080" cy="5553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5734080"/>
            <a:ext cx="78483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47680" y="1300320"/>
            <a:ext cx="864864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795240" y="1876320"/>
            <a:ext cx="7553520" cy="3105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547640" y="2378160"/>
            <a:ext cx="360360" cy="420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4024440" y="2349360"/>
            <a:ext cx="360360" cy="420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458040" y="2363760"/>
            <a:ext cx="36036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71440" y="1171440"/>
            <a:ext cx="86011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22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